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20.jpeg" ContentType="image/jpeg"/>
  <Override PartName="/ppt/media/image13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680B-1C22-4FF3-B081-F8E5E353A591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DC76-70E9-4336-9B81-1CAD76973865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9B11-DAD5-4EBD-AAEA-5A20226E2007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C067-4080-4AEE-AE87-CFB065DD8ED2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EB22-0D3C-4A92-9F57-FF07C441655F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BBA3-FA10-4751-8999-D0973E3E174F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80C8-0CCD-48B4-BD43-A79712535F45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BAA4-8117-4EC5-A2CF-1159D83112C4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F70A-78B0-4708-A87D-E8D899FCE0FF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35FE-D6F3-4F6E-9E63-7D106EF1411E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D6F0-48F0-49E2-944B-E638656A9D3C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01C7-249A-4B65-A08F-BD85BA6FBD67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ACC8-4DD7-4962-8665-7CC568464548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6E41-4543-4593-92BA-53009325E507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FA3-696A-48F4-82C6-EBA301D6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836-ACE0-47E7-ABB9-19A93DA3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F67-DDB6-4A4D-8ECF-196F1ED7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B7B-C338-491D-90A3-8772146A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DF1C-B2D3-4C46-BFB1-89C814F0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521D-8783-454B-8612-0FFA401A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42BE-1056-4504-8BF1-E7A1BE3D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465A-0729-4001-856B-793E822B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16A5-F9B6-4887-A282-15A1A27F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24F2-532B-4B11-BA1B-59A97FB3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FF60-3E6C-4123-A898-45F1D791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E0B-31CD-4081-BC19-135E7FC4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2D09-950F-47DB-9864-45B7E3EA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913A-FF28-48FB-BFFD-83E3D97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708B-C27E-4164-B45D-3658F539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3D0A-4250-4A55-8FC2-69FFE698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35E8-33CE-495F-A8AE-3AA7E9B6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F353-70D4-4434-8B77-61D69D6C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AC68-8F17-49F9-A152-750D1535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3EFFA-114B-48AC-ACF1-8CD3A1D9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0EF3-E7CD-42A3-B2AA-0554DB33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A660-8E31-4216-BEEB-1E611185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F31-9B3D-439C-B9D2-02DB29BF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72FF-CABD-4088-BE61-7FF81C94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9BC0-DD33-4BF9-96EA-AA0FC25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B252-83C7-4671-BD80-58CFE89B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2C633-41C3-4583-BF32-5C4D85E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B174-D434-497E-BB09-A3418C22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14CA-A47A-4286-AAB0-137EC593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4D105-66EB-41E6-9F85-416ECF1F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FEBC0-A3FB-49C4-8BA4-920DD5D1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CF94F-C201-43E3-94DB-AE1C5140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1FF3-6E48-43F8-87BB-FD2A6EA4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EF9-26FF-40AD-A868-87C7459C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5C9D-BED2-4D9C-910B-C6C8FD7A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FE8B-7063-41EE-8D44-0DF817F5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5C05E-78B6-4438-B567-7CF6BF9C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23D4-D8BD-45F4-985A-1A210D8E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B6C1-2503-45EB-98BC-1F2CD948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199A1-ABB6-41AF-80E2-F7E427DB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84D3-B9D0-4798-85A9-34BF449B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D7BF-3BEB-49DC-9C96-F01131BE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E72DB-2E52-41A5-9C0D-A741EC58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C7EF-F41B-4928-91F6-B23274CC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CC9-D38C-4A80-A021-00AC674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DFFC7-A015-40C9-AA71-07ED197A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0D51D-00CB-45B3-BB15-9DC57984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FEA24-36E0-41E0-94A7-0F398B39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F8CAB-5182-4189-8F51-140D867E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E335-6EEE-46E9-8748-BCDD4CC1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5A340-B681-40BB-BBAE-710381E2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5A33-05C5-4699-83FE-8C3227AC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18D36-4D63-4411-811D-F1273DFD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34AE-9356-493D-B276-260F3D19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867D7-1154-4174-8B22-CD6A5D0E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861-FE45-4BEF-953B-26A6CED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0B30E-93A7-4753-B9F2-D872EB61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7159B-0A4C-4B31-9CAF-481A7387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D33F1-D88A-4389-AAD1-F133D85B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3E81-6F15-49BD-A3DB-0821FD07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C72C-2A2E-44A7-A366-B33C740F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BD0A3-7AB0-4C99-A29A-2C1A90C9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349E8-7534-4BED-ABE0-0481B63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4B551-066C-4400-9E94-279051F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9C246-BD29-48B9-919F-EFDF0C23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543B5-698D-42BD-B4F4-78019928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494-6DCB-4DE5-914B-78096CE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D6415-FCDF-413D-B224-9A7CD3C3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A5A9E-3233-4CD8-9C3B-EC789CDE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5A034-997B-4E38-A540-B810C8FC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44203-334C-4A46-8870-044CD8D6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8B324-37B0-41BF-968F-D7AA9F1F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D11AC-B0E8-44BF-97A3-308CB5BF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1847C-B42C-4E0E-AD09-F41A10F5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8337E-12ED-4D7D-83B5-8E2791A9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3F356-E026-49D0-91F9-0EDC4E82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43BF9-E0AD-4A23-8D60-FE8ABF18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C07-4627-45D9-BCD7-B9A14456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606BD-F965-4FA8-9AC7-4F93F780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70336-A3F2-4C29-8415-F88290C1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29DF9-E23A-45E5-9890-3D84512A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1C5BD-A2E3-4D2E-9EB0-7EE963BD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40863-060C-42E6-806F-86358045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54A-D85B-4C18-B90C-F900FB1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E62D-2A4E-4ABC-A9D6-12B9540E13EF}" type="slidenum"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9E61-DCFB-4B80-890D-EB765522F8E8}" type="slidenum"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1892-2CE8-4BC0-9750-4F9BD690C559}" type="slidenum"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7CEA-3646-4D2D-BB09-3357B5963552}" type="slidenum"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FB9F-4637-4118-8AD8-8DC7BE7639CE}" type="slidenum"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62D1-6F05-46CD-A457-CF8D2189041D}" type="slidenum"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3C7F-C079-4D81-AD06-540772594332}" type="slidenum">
              <a:rPr b="0" lang="ca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image" Target="../media/image31.jpeg"/><Relationship Id="rId17" Type="http://schemas.openxmlformats.org/officeDocument/2006/relationships/image" Target="../media/image32.jpeg"/><Relationship Id="rId18" Type="http://schemas.openxmlformats.org/officeDocument/2006/relationships/image" Target="../media/image33.jpeg"/><Relationship Id="rId19" Type="http://schemas.openxmlformats.org/officeDocument/2006/relationships/image" Target="../media/image34.jpeg"/><Relationship Id="rId20" Type="http://schemas.openxmlformats.org/officeDocument/2006/relationships/image" Target="../media/image35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536400" y="517680"/>
            <a:ext cx="8163000" cy="16714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85880" y="1857240"/>
            <a:ext cx="7572240" cy="29289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Corbel"/>
              </a:rPr>
              <a:t>WORLD SCOUT JAMBOREE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Corbel"/>
              </a:rPr>
              <a:t>(SUÈCIA 2011)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Vista la situació estem preparan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Anar tot l’Agrupament de Campaments d’Estiu 2011 a Suèci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Instal·lar-se en un dels múltiples campaments “no oficials” al voltant de la </a:t>
            </a:r>
            <a:r>
              <a:rPr b="0" i="1" lang="ca-ES" sz="2800" spc="-1" strike="noStrike">
                <a:solidFill>
                  <a:srgbClr val="000000"/>
                </a:solidFill>
                <a:latin typeface="Corbel"/>
              </a:rPr>
              <a:t>Jambo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Participar d’activitats concretes dins la </a:t>
            </a:r>
            <a:r>
              <a:rPr b="0" i="1" lang="ca-ES" sz="2800" spc="-1" strike="noStrike">
                <a:solidFill>
                  <a:srgbClr val="000000"/>
                </a:solidFill>
                <a:latin typeface="Corbel"/>
              </a:rPr>
              <a:t>Jambo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Aprofitar una ocasió única perquè els nostres minyons coneixin noves cultures, noves costums, noves formes de pensar i de viure l’Escoltis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Això implicarà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Trencar mentalitats i males costu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Preparar-ho tot amb molta antel·lació </a:t>
            </a:r>
            <a:r>
              <a:rPr b="0" lang="ca-ES" sz="2400" spc="-1" strike="noStrike">
                <a:solidFill>
                  <a:srgbClr val="000000"/>
                </a:solidFill>
                <a:latin typeface="Corbel"/>
              </a:rPr>
              <a:t>(reserva del lloc, dels transports, saber qui vindrà, etc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Trobar noves fórmules per aconseguir més i millors recursos econòmic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Ser conscients de que uns campaments així només es poden fer un cop a la vida i que si es vol acomplir el Projecte caldrà fer un sobreesfor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Perquè després del </a:t>
            </a:r>
            <a:r>
              <a:rPr b="0" i="1" lang="ca-ES" sz="2800" spc="-1" strike="noStrike">
                <a:solidFill>
                  <a:srgbClr val="000000"/>
                </a:solidFill>
                <a:latin typeface="Corbel"/>
              </a:rPr>
              <a:t>Centenari de l’Escoltisme</a:t>
            </a: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 (Londres 2007) i de la </a:t>
            </a:r>
            <a:r>
              <a:rPr b="0" i="1" lang="ca-ES" sz="2800" spc="-1" strike="noStrike">
                <a:solidFill>
                  <a:srgbClr val="000000"/>
                </a:solidFill>
                <a:latin typeface="Corbel"/>
              </a:rPr>
              <a:t>Jamboree</a:t>
            </a: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 europea (Suècia 2011) comencen les rotacions per Region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orbel"/>
              </a:rPr>
              <a:t>2015 al Japó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orbel"/>
              </a:rPr>
              <a:t>2019 a l’Àfrica sub-sahariana (per determinar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orbel"/>
              </a:rPr>
              <a:t>I després: Amèrica del Nord, Rússia, Orient Mitjà, Amèrica del Sud, el Pacífic…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orbel"/>
              </a:rPr>
              <a:t>Si no s’hi va ara podríem perdre l’ocasió de participar d’un esdeveniment així fins ben bé d’aquí mig segle!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1" name="3 Imagen" descr="05_08_07_vo_08_imagelarge.jpg"/>
          <p:cNvPicPr/>
          <p:nvPr/>
        </p:nvPicPr>
        <p:blipFill>
          <a:blip r:embed="rId2"/>
          <a:stretch/>
        </p:blipFill>
        <p:spPr>
          <a:xfrm>
            <a:off x="1071720" y="1643040"/>
            <a:ext cx="7199280" cy="4786200"/>
          </a:xfrm>
          <a:prstGeom prst="rect">
            <a:avLst/>
          </a:prstGeom>
          <a:ln w="0">
            <a:noFill/>
          </a:ln>
        </p:spPr>
      </p:pic>
      <p:pic>
        <p:nvPicPr>
          <p:cNvPr id="342" name="4 Imagen" descr="angola_imagelarge.jpg"/>
          <p:cNvPicPr/>
          <p:nvPr/>
        </p:nvPicPr>
        <p:blipFill>
          <a:blip r:embed="rId3"/>
          <a:stretch/>
        </p:blipFill>
        <p:spPr>
          <a:xfrm rot="20073600">
            <a:off x="519120" y="1220400"/>
            <a:ext cx="3252960" cy="2484360"/>
          </a:xfrm>
          <a:prstGeom prst="rect">
            <a:avLst/>
          </a:prstGeom>
          <a:ln w="0">
            <a:noFill/>
          </a:ln>
        </p:spPr>
      </p:pic>
      <p:pic>
        <p:nvPicPr>
          <p:cNvPr id="343" name="5 Imagen" descr="05_08_07_ji_04_imagelarge.jpg"/>
          <p:cNvPicPr/>
          <p:nvPr/>
        </p:nvPicPr>
        <p:blipFill>
          <a:blip r:embed="rId4"/>
          <a:stretch/>
        </p:blipFill>
        <p:spPr>
          <a:xfrm rot="750600">
            <a:off x="4939920" y="520200"/>
            <a:ext cx="3392640" cy="5092920"/>
          </a:xfrm>
          <a:prstGeom prst="rect">
            <a:avLst/>
          </a:prstGeom>
          <a:ln w="0">
            <a:noFill/>
          </a:ln>
        </p:spPr>
      </p:pic>
      <p:pic>
        <p:nvPicPr>
          <p:cNvPr id="344" name="6 Imagen" descr="kenya_imagelarge.jpg"/>
          <p:cNvPicPr/>
          <p:nvPr/>
        </p:nvPicPr>
        <p:blipFill>
          <a:blip r:embed="rId5"/>
          <a:stretch/>
        </p:blipFill>
        <p:spPr>
          <a:xfrm>
            <a:off x="500040" y="3786120"/>
            <a:ext cx="3649680" cy="2786040"/>
          </a:xfrm>
          <a:prstGeom prst="rect">
            <a:avLst/>
          </a:prstGeom>
          <a:ln w="0">
            <a:noFill/>
          </a:ln>
        </p:spPr>
      </p:pic>
      <p:pic>
        <p:nvPicPr>
          <p:cNvPr id="345" name="7 Imagen" descr="05_08_07_ji_02_imagelarge.jpg"/>
          <p:cNvPicPr/>
          <p:nvPr/>
        </p:nvPicPr>
        <p:blipFill>
          <a:blip r:embed="rId6"/>
          <a:stretch/>
        </p:blipFill>
        <p:spPr>
          <a:xfrm rot="499200">
            <a:off x="3108240" y="2601720"/>
            <a:ext cx="5786640" cy="3857400"/>
          </a:xfrm>
          <a:prstGeom prst="rect">
            <a:avLst/>
          </a:prstGeom>
          <a:ln w="0">
            <a:noFill/>
          </a:ln>
        </p:spPr>
      </p:pic>
      <p:pic>
        <p:nvPicPr>
          <p:cNvPr id="346" name="8 Imagen" descr="jordon_39_imagelarge.gif"/>
          <p:cNvPicPr/>
          <p:nvPr/>
        </p:nvPicPr>
        <p:blipFill>
          <a:blip r:embed="rId7"/>
          <a:stretch/>
        </p:blipFill>
        <p:spPr>
          <a:xfrm>
            <a:off x="2000160" y="1285920"/>
            <a:ext cx="4286520" cy="3209760"/>
          </a:xfrm>
          <a:prstGeom prst="rect">
            <a:avLst/>
          </a:prstGeom>
          <a:ln w="0">
            <a:noFill/>
          </a:ln>
        </p:spPr>
      </p:pic>
      <p:pic>
        <p:nvPicPr>
          <p:cNvPr id="347" name="9 Imagen" descr="jordon_53_imagelarge.gif"/>
          <p:cNvPicPr/>
          <p:nvPr/>
        </p:nvPicPr>
        <p:blipFill>
          <a:blip r:embed="rId8"/>
          <a:stretch/>
        </p:blipFill>
        <p:spPr>
          <a:xfrm rot="712800">
            <a:off x="247680" y="3598560"/>
            <a:ext cx="4286160" cy="2847960"/>
          </a:xfrm>
          <a:prstGeom prst="rect">
            <a:avLst/>
          </a:prstGeom>
          <a:ln w="0">
            <a:noFill/>
          </a:ln>
        </p:spPr>
      </p:pic>
      <p:pic>
        <p:nvPicPr>
          <p:cNvPr id="348" name="10 Imagen" descr="04_08_07_ji_04_imagelarge.jpg"/>
          <p:cNvPicPr/>
          <p:nvPr/>
        </p:nvPicPr>
        <p:blipFill>
          <a:blip r:embed="rId9"/>
          <a:stretch/>
        </p:blipFill>
        <p:spPr>
          <a:xfrm rot="479400">
            <a:off x="4053960" y="315720"/>
            <a:ext cx="4751640" cy="3166920"/>
          </a:xfrm>
          <a:prstGeom prst="rect">
            <a:avLst/>
          </a:prstGeom>
          <a:ln w="0">
            <a:noFill/>
          </a:ln>
        </p:spPr>
      </p:pic>
      <p:pic>
        <p:nvPicPr>
          <p:cNvPr id="349" name="11 Imagen" descr="0.jpg"/>
          <p:cNvPicPr/>
          <p:nvPr/>
        </p:nvPicPr>
        <p:blipFill>
          <a:blip r:embed="rId10"/>
          <a:stretch/>
        </p:blipFill>
        <p:spPr>
          <a:xfrm rot="21060000">
            <a:off x="209520" y="2934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350" name="12 Imagen" descr="rpbbangladesh.jpg"/>
          <p:cNvPicPr/>
          <p:nvPr/>
        </p:nvPicPr>
        <p:blipFill>
          <a:blip r:embed="rId11"/>
          <a:stretch/>
        </p:blipFill>
        <p:spPr>
          <a:xfrm>
            <a:off x="2286000" y="1143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351" name="13 Imagen" descr="scouts_aust_enviro_articleimage.jpg"/>
          <p:cNvPicPr/>
          <p:nvPr/>
        </p:nvPicPr>
        <p:blipFill>
          <a:blip r:embed="rId12"/>
          <a:stretch/>
        </p:blipFill>
        <p:spPr>
          <a:xfrm rot="617400">
            <a:off x="6327360" y="198000"/>
            <a:ext cx="2533680" cy="3387960"/>
          </a:xfrm>
          <a:prstGeom prst="rect">
            <a:avLst/>
          </a:prstGeom>
          <a:ln w="0">
            <a:noFill/>
          </a:ln>
        </p:spPr>
      </p:pic>
      <p:pic>
        <p:nvPicPr>
          <p:cNvPr id="352" name="16 Imagen" descr="taiwandiscovery6.jpg"/>
          <p:cNvPicPr/>
          <p:nvPr/>
        </p:nvPicPr>
        <p:blipFill>
          <a:blip r:embed="rId13"/>
          <a:stretch/>
        </p:blipFill>
        <p:spPr>
          <a:xfrm>
            <a:off x="4786200" y="357192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353" name="17 Imagen" descr="kazakh_scouts_on_brownsea.jpg"/>
          <p:cNvPicPr/>
          <p:nvPr/>
        </p:nvPicPr>
        <p:blipFill>
          <a:blip r:embed="rId14"/>
          <a:stretch/>
        </p:blipFill>
        <p:spPr>
          <a:xfrm rot="634200">
            <a:off x="787320" y="1231560"/>
            <a:ext cx="3778200" cy="5038560"/>
          </a:xfrm>
          <a:prstGeom prst="rect">
            <a:avLst/>
          </a:prstGeom>
          <a:ln w="0">
            <a:noFill/>
          </a:ln>
        </p:spPr>
      </p:pic>
      <p:pic>
        <p:nvPicPr>
          <p:cNvPr id="354" name="18 Imagen" descr="kazakh_scouts_build_tent.jpg"/>
          <p:cNvPicPr/>
          <p:nvPr/>
        </p:nvPicPr>
        <p:blipFill>
          <a:blip r:embed="rId15"/>
          <a:stretch/>
        </p:blipFill>
        <p:spPr>
          <a:xfrm rot="527400">
            <a:off x="4301640" y="323640"/>
            <a:ext cx="4488120" cy="3365280"/>
          </a:xfrm>
          <a:prstGeom prst="rect">
            <a:avLst/>
          </a:prstGeom>
          <a:ln w="0">
            <a:noFill/>
          </a:ln>
        </p:spPr>
      </p:pic>
      <p:pic>
        <p:nvPicPr>
          <p:cNvPr id="355" name="19 Imagen" descr="05_08_07_lc_06_imagelarge.jpg"/>
          <p:cNvPicPr/>
          <p:nvPr/>
        </p:nvPicPr>
        <p:blipFill>
          <a:blip r:embed="rId16"/>
          <a:stretch/>
        </p:blipFill>
        <p:spPr>
          <a:xfrm flipH="1" rot="20532000">
            <a:off x="181080" y="479160"/>
            <a:ext cx="5072040" cy="3381120"/>
          </a:xfrm>
          <a:prstGeom prst="rect">
            <a:avLst/>
          </a:prstGeom>
          <a:ln w="0">
            <a:noFill/>
          </a:ln>
        </p:spPr>
      </p:pic>
      <p:pic>
        <p:nvPicPr>
          <p:cNvPr id="356" name="20 Imagen" descr="05_08_07_ji_03.jpg"/>
          <p:cNvPicPr/>
          <p:nvPr/>
        </p:nvPicPr>
        <p:blipFill>
          <a:blip r:embed="rId17"/>
          <a:stretch/>
        </p:blipFill>
        <p:spPr>
          <a:xfrm rot="619800">
            <a:off x="5709960" y="2308320"/>
            <a:ext cx="3047760" cy="4572000"/>
          </a:xfrm>
          <a:prstGeom prst="rect">
            <a:avLst/>
          </a:prstGeom>
          <a:ln w="0">
            <a:noFill/>
          </a:ln>
        </p:spPr>
      </p:pic>
      <p:pic>
        <p:nvPicPr>
          <p:cNvPr id="357" name="22 Imagen" descr="04_08_07_lc_06.jpg"/>
          <p:cNvPicPr/>
          <p:nvPr/>
        </p:nvPicPr>
        <p:blipFill>
          <a:blip r:embed="rId18"/>
          <a:stretch/>
        </p:blipFill>
        <p:spPr>
          <a:xfrm rot="1284600">
            <a:off x="5143680" y="214200"/>
            <a:ext cx="3095280" cy="4643640"/>
          </a:xfrm>
          <a:prstGeom prst="rect">
            <a:avLst/>
          </a:prstGeom>
          <a:ln w="0">
            <a:noFill/>
          </a:ln>
        </p:spPr>
      </p:pic>
      <p:pic>
        <p:nvPicPr>
          <p:cNvPr id="358" name="21 Imagen" descr="05_08_07_vo_03_imagelarge.jpg"/>
          <p:cNvPicPr/>
          <p:nvPr/>
        </p:nvPicPr>
        <p:blipFill>
          <a:blip r:embed="rId19"/>
          <a:stretch/>
        </p:blipFill>
        <p:spPr>
          <a:xfrm>
            <a:off x="2928960" y="1714680"/>
            <a:ext cx="3441600" cy="5143320"/>
          </a:xfrm>
          <a:prstGeom prst="rect">
            <a:avLst/>
          </a:prstGeom>
          <a:ln w="0">
            <a:noFill/>
          </a:ln>
        </p:spPr>
      </p:pic>
      <p:pic>
        <p:nvPicPr>
          <p:cNvPr id="359" name="23 Imagen" descr="WSJ2011 - Logo.png"/>
          <p:cNvPicPr/>
          <p:nvPr/>
        </p:nvPicPr>
        <p:blipFill>
          <a:blip r:embed="rId20"/>
          <a:stretch/>
        </p:blipFill>
        <p:spPr>
          <a:xfrm>
            <a:off x="1643040" y="1071720"/>
            <a:ext cx="604188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2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3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4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5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6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6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7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7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8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8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90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1000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És una gran trobada mundial d’escoltes, organitzada per la WOSM (</a:t>
            </a:r>
            <a:r>
              <a:rPr b="0" lang="ca-ES" sz="2000" spc="-1" strike="noStrike">
                <a:solidFill>
                  <a:srgbClr val="000000"/>
                </a:solidFill>
                <a:latin typeface="Corbel"/>
              </a:rPr>
              <a:t>World Organization for the Scout Movement</a:t>
            </a: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Hi poden participar escoltes de qualsevol entitat federada a la WOSM (com ASDE-Acció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Es fa cada quatre anys en una Regió Escolta (gairebé un “continent”) diferent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2011 Suèci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2015 Japó.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El 2011 es farà al sud de Suèc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En una esplanada a les afores del poble de Rinkaby (província de Kristianstad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3 Imagen" descr="WSJ2011 - Europa.jpg"/>
          <p:cNvPicPr/>
          <p:nvPr/>
        </p:nvPicPr>
        <p:blipFill>
          <a:blip r:embed="rId2"/>
          <a:stretch/>
        </p:blipFill>
        <p:spPr>
          <a:xfrm>
            <a:off x="671400" y="538200"/>
            <a:ext cx="7801200" cy="5781600"/>
          </a:xfrm>
          <a:prstGeom prst="rect">
            <a:avLst/>
          </a:prstGeom>
          <a:ln w="0">
            <a:noFill/>
          </a:ln>
        </p:spPr>
      </p:pic>
      <p:sp>
        <p:nvSpPr>
          <p:cNvPr id="317" name="4 Flecha a la derecha con bandas"/>
          <p:cNvSpPr/>
          <p:nvPr/>
        </p:nvSpPr>
        <p:spPr>
          <a:xfrm rot="17962800">
            <a:off x="2351880" y="3226320"/>
            <a:ext cx="5068800" cy="492120"/>
          </a:xfrm>
          <a:custGeom>
            <a:avLst/>
            <a:gdLst>
              <a:gd name="textAreaLeft" fmla="*/ 76680 w 5068800"/>
              <a:gd name="textAreaRight" fmla="*/ 4864320 w 5068800"/>
              <a:gd name="textAreaTop" fmla="*/ 177120 h 492120"/>
              <a:gd name="textAreaBottom" fmla="*/ 315000 h 492120"/>
            </a:gdLst>
            <a:ahLst/>
            <a:rect l="textAreaLeft" t="textAreaTop" r="textAreaRight" b="textAreaBottom"/>
            <a:pathLst>
              <a:path w="5068662" h="492068">
                <a:moveTo>
                  <a:pt x="0" y="176982"/>
                </a:moveTo>
                <a:lnTo>
                  <a:pt x="15377" y="176982"/>
                </a:lnTo>
                <a:lnTo>
                  <a:pt x="15377" y="315086"/>
                </a:lnTo>
                <a:lnTo>
                  <a:pt x="0" y="315086"/>
                </a:lnTo>
                <a:close/>
                <a:moveTo>
                  <a:pt x="30754" y="176982"/>
                </a:moveTo>
                <a:lnTo>
                  <a:pt x="61509" y="176982"/>
                </a:lnTo>
                <a:lnTo>
                  <a:pt x="61509" y="315086"/>
                </a:lnTo>
                <a:lnTo>
                  <a:pt x="30754" y="315086"/>
                </a:lnTo>
                <a:close/>
                <a:moveTo>
                  <a:pt x="76886" y="176982"/>
                </a:moveTo>
                <a:lnTo>
                  <a:pt x="4339894" y="176982"/>
                </a:lnTo>
                <a:lnTo>
                  <a:pt x="4339894" y="0"/>
                </a:lnTo>
                <a:lnTo>
                  <a:pt x="5068662" y="246034"/>
                </a:lnTo>
                <a:lnTo>
                  <a:pt x="4339894" y="492068"/>
                </a:lnTo>
                <a:lnTo>
                  <a:pt x="4339894" y="315086"/>
                </a:lnTo>
                <a:lnTo>
                  <a:pt x="76886" y="315086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5 Rectángulo"/>
          <p:cNvSpPr/>
          <p:nvPr/>
        </p:nvSpPr>
        <p:spPr>
          <a:xfrm>
            <a:off x="6000840" y="857160"/>
            <a:ext cx="714240" cy="357120"/>
          </a:xfrm>
          <a:prstGeom prst="rect">
            <a:avLst/>
          </a:prstGeom>
          <a:noFill/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3 Imagen" descr="WSJ2011 - Mapa General.png"/>
          <p:cNvPicPr/>
          <p:nvPr/>
        </p:nvPicPr>
        <p:blipFill>
          <a:blip r:embed="rId2"/>
          <a:stretch/>
        </p:blipFill>
        <p:spPr>
          <a:xfrm>
            <a:off x="857160" y="1571760"/>
            <a:ext cx="7210440" cy="5076720"/>
          </a:xfrm>
          <a:prstGeom prst="rect">
            <a:avLst/>
          </a:prstGeom>
          <a:ln w="0">
            <a:noFill/>
          </a:ln>
        </p:spPr>
      </p:pic>
      <p:sp>
        <p:nvSpPr>
          <p:cNvPr id="321" name="4 Rectángulo"/>
          <p:cNvSpPr/>
          <p:nvPr/>
        </p:nvSpPr>
        <p:spPr>
          <a:xfrm>
            <a:off x="4500720" y="4929120"/>
            <a:ext cx="714240" cy="428760"/>
          </a:xfrm>
          <a:prstGeom prst="rect">
            <a:avLst/>
          </a:prstGeom>
          <a:noFill/>
          <a:ln w="478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5 Imagen" descr="WSJ2011 - Local map.jpg"/>
          <p:cNvPicPr/>
          <p:nvPr/>
        </p:nvPicPr>
        <p:blipFill>
          <a:blip r:embed="rId3"/>
          <a:stretch/>
        </p:blipFill>
        <p:spPr>
          <a:xfrm>
            <a:off x="2214720" y="1143000"/>
            <a:ext cx="4762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50004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Avió de Barcelona a Coppenhagg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1.800 km (unes 4 hores de vol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Amb tren o autobús fins a Kristiansta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Uns 140 km (una hora i mitja de traject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3 Imagen" descr="WSJ2011 - Ruta Copenhaggen a Kristianstad.png"/>
          <p:cNvPicPr/>
          <p:nvPr/>
        </p:nvPicPr>
        <p:blipFill>
          <a:blip r:embed="rId2"/>
          <a:stretch/>
        </p:blipFill>
        <p:spPr>
          <a:xfrm>
            <a:off x="285840" y="1714680"/>
            <a:ext cx="86202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Les dates oficials de la </a:t>
            </a:r>
            <a:r>
              <a:rPr b="0" i="1" lang="ca-ES" sz="3200" spc="-1" strike="noStrike">
                <a:solidFill>
                  <a:srgbClr val="000000"/>
                </a:solidFill>
                <a:latin typeface="Corbel"/>
              </a:rPr>
              <a:t>Jamboree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s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Del 27 de juliol de 201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Al 7 d’agost de 201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Lògicament hi ha Contingents (</a:t>
            </a:r>
            <a:r>
              <a:rPr b="0" lang="ca-ES" sz="2400" spc="-1" strike="noStrike">
                <a:solidFill>
                  <a:srgbClr val="000000"/>
                </a:solidFill>
                <a:latin typeface="Corbel"/>
              </a:rPr>
              <a:t>grups d’escoltes arribats d’un mateix país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) que arriben abans o marxen alguns dies més tard, segons els vols, però la </a:t>
            </a:r>
            <a:r>
              <a:rPr b="0" i="1" lang="ca-ES" sz="3200" spc="-1" strike="noStrike">
                <a:solidFill>
                  <a:srgbClr val="000000"/>
                </a:solidFill>
                <a:latin typeface="Corbel"/>
              </a:rPr>
              <a:t>Jamboree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està tancad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La </a:t>
            </a:r>
            <a:r>
              <a:rPr b="0" i="1" lang="ca-ES" sz="3200" spc="-1" strike="noStrike">
                <a:solidFill>
                  <a:srgbClr val="000000"/>
                </a:solidFill>
                <a:latin typeface="Corbel"/>
              </a:rPr>
              <a:t>Jamboree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està pensada per als minyons de les unitats grans </a:t>
            </a:r>
            <a:r>
              <a:rPr b="0" lang="ca-ES" sz="2400" spc="-1" strike="noStrike">
                <a:solidFill>
                  <a:srgbClr val="000000"/>
                </a:solidFill>
                <a:latin typeface="Corbel"/>
              </a:rPr>
              <a:t>(Pioners i 3r any de Raiers)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Cal haver nascut entre els juliols de 1993-1997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Són els minyons que tindran entre 14 i 17 any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Els majors d’edat </a:t>
            </a:r>
            <a:r>
              <a:rPr b="0" lang="ca-ES" sz="2400" spc="-1" strike="noStrike">
                <a:solidFill>
                  <a:srgbClr val="000000"/>
                </a:solidFill>
                <a:latin typeface="Corbel"/>
              </a:rPr>
              <a:t>(nascuts abans del juliol de 1993)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poden anar com a </a:t>
            </a:r>
            <a:r>
              <a:rPr b="1" lang="ca-ES" sz="3200" spc="-1" strike="noStrike">
                <a:solidFill>
                  <a:srgbClr val="000000"/>
                </a:solidFill>
                <a:latin typeface="Corbel"/>
              </a:rPr>
              <a:t>monitors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acompanyants o com a </a:t>
            </a:r>
            <a:r>
              <a:rPr b="1" i="1" lang="ca-ES" sz="3200" spc="-1" strike="noStrike">
                <a:solidFill>
                  <a:srgbClr val="000000"/>
                </a:solidFill>
                <a:latin typeface="Corbel"/>
              </a:rPr>
              <a:t>staff</a:t>
            </a: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orbel"/>
              </a:rPr>
              <a:t>(voluntaris, en l’organització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Als voltants de la Jamboree oficial, s’hi instal·len diversos campaments escoltes “no oficials” amb certs avantatg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No cal una edat específica, s’hi troben escoltes de totes les eda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No cal formar part d’un Contingent Nacion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No cal estar exactament aquestes dates, pots arribar i marxar quan vulgu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64304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rbel"/>
              </a:rPr>
              <a:t>Anar a un campament “no oficial” perme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Trobar-se amb escoltes d’arreu del m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Fer activitats conjuntes, intercanviar experiències, cançons, idees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Conèixer un país nou, una cultura nov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Créixer com a escoltes i com a persones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Els minyons que tinguin la edat corresponent poden entrar a la </a:t>
            </a:r>
            <a:r>
              <a:rPr b="0" i="1" lang="ca-ES" sz="2800" spc="-1" strike="noStrike">
                <a:solidFill>
                  <a:srgbClr val="000000"/>
                </a:solidFill>
                <a:latin typeface="Corbel"/>
              </a:rPr>
              <a:t>Jamboree,</a:t>
            </a:r>
            <a:r>
              <a:rPr b="0" lang="ca-ES" sz="2800" spc="-1" strike="noStrike">
                <a:solidFill>
                  <a:srgbClr val="000000"/>
                </a:solidFill>
                <a:latin typeface="Corbel"/>
              </a:rPr>
              <a:t> perquè es poden comprar entrades d’un dia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8:42:55Z</dcterms:created>
  <dc:creator>Marc Blanché</dc:creator>
  <dc:description/>
  <dc:language>en-US</dc:language>
  <cp:lastModifiedBy>Marc Blanché</cp:lastModifiedBy>
  <dcterms:modified xsi:type="dcterms:W3CDTF">2009-11-05T12:46:16Z</dcterms:modified>
  <cp:revision>10</cp:revision>
  <dc:subject/>
  <dc:title>PROJECTE D’AGRUPAMENT:</dc:title>
</cp:coreProperties>
</file>