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6827-369C-46A2-BC5D-1312740E4BA3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187-C996-4D59-94BF-56D32398C151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8F01-A427-4B24-83EA-0B8FC4BD46BB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D62-F87B-4E50-B390-6BDF76077CB4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9746-7BB4-4781-B408-9015A40346A3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AD0-E7C7-4C0C-BD45-26A9BFC81B8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5CFA-07D7-45CE-8690-F7543A913D7E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B9C-1BD1-4C23-98E2-D213E0A3A613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007-AA59-4636-9AF6-367C728E12B5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3E91-B681-4C17-8410-230745998DF2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E76-60A1-441C-A94E-6A6E8D6EAC55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A6F-DFFD-4362-A005-39F208D88832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4D72-BC56-499B-9049-E1586823D88E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E97-3705-4775-83A6-8E5DFCC9C274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9C3-5FAC-4F78-B7D8-D448B72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A77-5141-4518-B172-B373F0D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7CB-746D-4898-9E82-CF52A14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CC2-C2EA-48A0-88DE-AECA87B2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B90-2F97-4EB9-89AD-849E51F9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13AE-E7D3-4BAC-B760-EE173F3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7B3-982A-4F3B-94A7-BE31B30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624-DB8A-4E63-88AE-6E3C716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719-6160-4960-8325-FE1603B5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1D9-2FF5-49B1-91FA-AF3ED7D7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928F-B075-45B0-A171-D17F2CF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A1B-E125-483D-ADFE-4639F4B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E5E-1B41-42AD-B614-B59CE38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3C3-A63E-4BA5-AC66-46DEDE2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DE76-8BFB-4E03-A0CE-10CA0CD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76A-1CB5-482E-A665-B8A735CD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D86C-3289-4B61-B8CF-FDD9AA4A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4DFD-13D3-443A-BDA9-135CA396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5FC4-3A1C-432A-9E1E-56BFB53C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FEBA-A36E-417F-A91C-F0F820A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6F29-40DC-4DED-9133-AAF45DB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7B43-45D0-4C3A-B690-F7021F4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006-C5CC-4E58-96DA-1EE86EB1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E386-8EFA-402A-B5BD-C828282B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0D01-6323-4514-8CD4-A62BC9EC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73CB-62E7-403E-B935-8A9E16F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F3A6-BDCB-4F70-B6E7-DE3C4F4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D493-0B8E-41B0-95BC-AA71AF9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822E-19CC-4538-BF50-F171D398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63F5-E430-4A37-8E89-06412DA4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9065-D99D-4CCB-AA99-A1358C6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8A02-5583-429A-8AB2-2C31DD4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91A5-1CB6-4DC3-9FF0-3645ED5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5DB-1624-4021-B531-20F4F50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6D26-551F-49E7-851C-1CD3A74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9F0E-FC05-4F41-B4DB-59B17F2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C3A2-4EDE-49C7-8714-88FB6B8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95A5-A636-4F5F-9ED5-F04EAE9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B43E-416E-4E64-8B16-3F129BE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D1D4-A1AB-4A19-9E8F-F000F92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98E3-CFDC-45F1-87BB-69DDA74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2B13-F221-4591-AFC6-AFCC96C3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0A08-FB00-48DD-BAC4-E0BC9EBF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34DD-0124-4FB7-B975-6AC4225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622-35EA-465D-A4D0-21969336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EDE2-3BC9-49B5-8C7A-246EC56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D65D-AA37-4049-A9BC-D053E47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08CB-B67C-49B7-AEDE-570DAC4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CB10-D898-4B9B-AFE2-2E01663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8C51-8D6B-4D95-9267-C2A3B86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1426-91EF-4A38-A269-B2585DC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358D-E017-4D22-8698-B8D34162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BDCD-2A6F-46CB-84F8-CBBF6BC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199B-F56F-4D6B-8A1D-85030B4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6D5C-856F-4235-A6BC-36789BDD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1F0-7C76-49A9-B9AA-4D09692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338C-5239-4513-A0B8-83162A37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09F63-7E9F-4FA5-A775-C5AA3C16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9512-9132-4FEF-92A0-0B2BFF11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52356-F987-4A82-9CB9-EA75D169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2A29-9027-4078-9D3D-C396DE4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FC79-A49C-4D56-8EE9-25E4EE12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B70E7-C3D4-4993-8584-650E3C41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BE60-D830-49FE-8C5B-0F6661F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53B78-8E95-44F6-87D5-86E99A2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4D97-D48F-44EA-989D-1EA58BB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146-1302-4B1E-BB0C-399E0C14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2E58-AF60-4881-9F3C-73B078EC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6D42-4CC2-4FFD-9A43-BFEF4507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27F3A-C649-4F3B-BE6F-FD8FA27C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4EE08-2EBE-46A9-932B-F402A5C4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7E0F-BD48-4B55-9F2E-46DC4BE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80E8-B9F6-482E-86C3-6FC8ED2B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734BE-EF1E-45AF-8C13-511EAA00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966A-34D7-494D-9986-CE0C35D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33D2-DCCB-4C1F-BFE2-8D85D8FC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478E-6003-4CB7-A115-7110947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46F-5989-4085-A733-5851880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9943-9887-4939-924C-E365445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18524-A733-42C5-B5BB-14A98FB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1990-A71F-489F-BD49-F418E4D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D20A-AE6B-40CC-BCD9-760214DF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BF6A2-A860-423A-B4DC-E151AAD9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946-4CF4-4095-A610-12FB42E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B8C8-1E27-432B-BDC4-E9DDFCE1F614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041-46F1-4F59-AB53-828C4CAEE7C5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D14-6402-49C8-B352-866D227B1C2D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ADF-8745-4708-BE7E-43F86CE5E0C0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CA6-C306-4467-A2F5-34C1CAD18D5D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9C4A-CED2-4F89-A8E8-5741BE39F379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3B6-58AA-46C4-869E-2DBD59F3908B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image" Target="../media/image34.jpe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536400" y="517680"/>
            <a:ext cx="8163000" cy="1671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85880" y="1857240"/>
            <a:ext cx="7572240" cy="2928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Corbel"/>
              </a:rPr>
              <a:t>WORLD SCOUT JAMBORE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Corbel"/>
              </a:rPr>
              <a:t>(SUÈCIA 2011)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Vista la situació estem prepara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nar tot l’Agrupament de Campaments d’Estiu 2011 a Suèc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Instal·lar-se en un dels múltiples campaments “no oficials” al voltant de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articipar d’activitats concretes dins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profitar una ocasió única perquè els nostres minyons coneixin noves cultures, noves costums, noves formes de pensar i de viure l’Escoltis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ixò implicarà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encar mentalitats i males costu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reparar-ho tot amb molta antel·lació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reserva del lloc, dels transports, saber qui vindrà, etc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obar noves fórmules per aconseguir més i millors recursos econòm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Ser conscients de que uns campaments així només es poden fer un cop a la vida i que si es vol acomplir el Projecte caldrà fer un sobreesfor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erquè després del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Centenari de l’Escoltisme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(Londres 2007) i de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europea (Suècia 2011) comencen les rotacions per Reg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2015 al Japó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2019 a l’Àfrica sub-sahariana (per determinar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I després: Amèrica del Nord, Rússia, Orient Mitjà, Amèrica del Sud, el Pacífic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orbel"/>
              </a:rPr>
              <a:t>Si no s’hi va ara podríem perdre l’ocasió de participar d’un esdeveniment així fins ben bé d’aquí mig segle!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1" name="3 Imagen" descr="05_08_07_vo_08_imagelarge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99280" cy="4786200"/>
          </a:xfrm>
          <a:prstGeom prst="rect">
            <a:avLst/>
          </a:prstGeom>
          <a:ln w="0">
            <a:noFill/>
          </a:ln>
        </p:spPr>
      </p:pic>
      <p:pic>
        <p:nvPicPr>
          <p:cNvPr id="342" name="4 Imagen" descr="angola_imagelarge.jpg"/>
          <p:cNvPicPr/>
          <p:nvPr/>
        </p:nvPicPr>
        <p:blipFill>
          <a:blip r:embed="rId3"/>
          <a:stretch/>
        </p:blipFill>
        <p:spPr>
          <a:xfrm rot="20073600">
            <a:off x="519120" y="1220400"/>
            <a:ext cx="3252960" cy="2484360"/>
          </a:xfrm>
          <a:prstGeom prst="rect">
            <a:avLst/>
          </a:prstGeom>
          <a:ln w="0">
            <a:noFill/>
          </a:ln>
        </p:spPr>
      </p:pic>
      <p:pic>
        <p:nvPicPr>
          <p:cNvPr id="343" name="5 Imagen" descr="05_08_07_ji_04_imagelarge.jpg"/>
          <p:cNvPicPr/>
          <p:nvPr/>
        </p:nvPicPr>
        <p:blipFill>
          <a:blip r:embed="rId4"/>
          <a:stretch/>
        </p:blipFill>
        <p:spPr>
          <a:xfrm rot="750600">
            <a:off x="4939920" y="520200"/>
            <a:ext cx="3392640" cy="5092920"/>
          </a:xfrm>
          <a:prstGeom prst="rect">
            <a:avLst/>
          </a:prstGeom>
          <a:ln w="0">
            <a:noFill/>
          </a:ln>
        </p:spPr>
      </p:pic>
      <p:pic>
        <p:nvPicPr>
          <p:cNvPr id="344" name="6 Imagen" descr="kenya_imagelarge.jpg"/>
          <p:cNvPicPr/>
          <p:nvPr/>
        </p:nvPicPr>
        <p:blipFill>
          <a:blip r:embed="rId5"/>
          <a:stretch/>
        </p:blipFill>
        <p:spPr>
          <a:xfrm>
            <a:off x="500040" y="3786120"/>
            <a:ext cx="3649680" cy="2786040"/>
          </a:xfrm>
          <a:prstGeom prst="rect">
            <a:avLst/>
          </a:prstGeom>
          <a:ln w="0">
            <a:noFill/>
          </a:ln>
        </p:spPr>
      </p:pic>
      <p:pic>
        <p:nvPicPr>
          <p:cNvPr id="345" name="7 Imagen" descr="05_08_07_ji_02_imagelarge.jpg"/>
          <p:cNvPicPr/>
          <p:nvPr/>
        </p:nvPicPr>
        <p:blipFill>
          <a:blip r:embed="rId6"/>
          <a:stretch/>
        </p:blipFill>
        <p:spPr>
          <a:xfrm rot="499200">
            <a:off x="3108240" y="2601720"/>
            <a:ext cx="5786640" cy="3857400"/>
          </a:xfrm>
          <a:prstGeom prst="rect">
            <a:avLst/>
          </a:prstGeom>
          <a:ln w="0">
            <a:noFill/>
          </a:ln>
        </p:spPr>
      </p:pic>
      <p:pic>
        <p:nvPicPr>
          <p:cNvPr id="346" name="8 Imagen" descr="jordon_39_imagelarge.gif"/>
          <p:cNvPicPr/>
          <p:nvPr/>
        </p:nvPicPr>
        <p:blipFill>
          <a:blip r:embed="rId7"/>
          <a:stretch/>
        </p:blipFill>
        <p:spPr>
          <a:xfrm>
            <a:off x="2000160" y="1285920"/>
            <a:ext cx="4286520" cy="3209760"/>
          </a:xfrm>
          <a:prstGeom prst="rect">
            <a:avLst/>
          </a:prstGeom>
          <a:ln w="0">
            <a:noFill/>
          </a:ln>
        </p:spPr>
      </p:pic>
      <p:pic>
        <p:nvPicPr>
          <p:cNvPr id="347" name="9 Imagen" descr="jordon_53_imagelarge.gif"/>
          <p:cNvPicPr/>
          <p:nvPr/>
        </p:nvPicPr>
        <p:blipFill>
          <a:blip r:embed="rId8"/>
          <a:stretch/>
        </p:blipFill>
        <p:spPr>
          <a:xfrm rot="712800">
            <a:off x="247680" y="3598560"/>
            <a:ext cx="4286160" cy="2847960"/>
          </a:xfrm>
          <a:prstGeom prst="rect">
            <a:avLst/>
          </a:prstGeom>
          <a:ln w="0">
            <a:noFill/>
          </a:ln>
        </p:spPr>
      </p:pic>
      <p:pic>
        <p:nvPicPr>
          <p:cNvPr id="348" name="10 Imagen" descr="04_08_07_ji_04_imagelarge.jpg"/>
          <p:cNvPicPr/>
          <p:nvPr/>
        </p:nvPicPr>
        <p:blipFill>
          <a:blip r:embed="rId9"/>
          <a:stretch/>
        </p:blipFill>
        <p:spPr>
          <a:xfrm rot="479400">
            <a:off x="4053960" y="315720"/>
            <a:ext cx="4751640" cy="3166920"/>
          </a:xfrm>
          <a:prstGeom prst="rect">
            <a:avLst/>
          </a:prstGeom>
          <a:ln w="0">
            <a:noFill/>
          </a:ln>
        </p:spPr>
      </p:pic>
      <p:pic>
        <p:nvPicPr>
          <p:cNvPr id="349" name="11 Imagen" descr="0.jpg"/>
          <p:cNvPicPr/>
          <p:nvPr/>
        </p:nvPicPr>
        <p:blipFill>
          <a:blip r:embed="rId10"/>
          <a:stretch/>
        </p:blipFill>
        <p:spPr>
          <a:xfrm rot="21060000">
            <a:off x="209520" y="2934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350" name="12 Imagen" descr="rpbbangladesh.jpg"/>
          <p:cNvPicPr/>
          <p:nvPr/>
        </p:nvPicPr>
        <p:blipFill>
          <a:blip r:embed="rId11"/>
          <a:stretch/>
        </p:blipFill>
        <p:spPr>
          <a:xfrm>
            <a:off x="2286000" y="114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351" name="13 Imagen" descr="scouts_aust_enviro_articleimage.jpg"/>
          <p:cNvPicPr/>
          <p:nvPr/>
        </p:nvPicPr>
        <p:blipFill>
          <a:blip r:embed="rId12"/>
          <a:stretch/>
        </p:blipFill>
        <p:spPr>
          <a:xfrm rot="617400">
            <a:off x="6327360" y="198000"/>
            <a:ext cx="2533680" cy="3387960"/>
          </a:xfrm>
          <a:prstGeom prst="rect">
            <a:avLst/>
          </a:prstGeom>
          <a:ln w="0">
            <a:noFill/>
          </a:ln>
        </p:spPr>
      </p:pic>
      <p:pic>
        <p:nvPicPr>
          <p:cNvPr id="352" name="16 Imagen" descr="taiwandiscovery6.jpg"/>
          <p:cNvPicPr/>
          <p:nvPr/>
        </p:nvPicPr>
        <p:blipFill>
          <a:blip r:embed="rId13"/>
          <a:stretch/>
        </p:blipFill>
        <p:spPr>
          <a:xfrm>
            <a:off x="4786200" y="357192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353" name="17 Imagen" descr="kazakh_scouts_on_brownsea.jpg"/>
          <p:cNvPicPr/>
          <p:nvPr/>
        </p:nvPicPr>
        <p:blipFill>
          <a:blip r:embed="rId14"/>
          <a:stretch/>
        </p:blipFill>
        <p:spPr>
          <a:xfrm rot="634200">
            <a:off x="787320" y="1231560"/>
            <a:ext cx="3778200" cy="5038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kazakh_scouts_build_tent.jpg"/>
          <p:cNvPicPr/>
          <p:nvPr/>
        </p:nvPicPr>
        <p:blipFill>
          <a:blip r:embed="rId15"/>
          <a:stretch/>
        </p:blipFill>
        <p:spPr>
          <a:xfrm rot="527400">
            <a:off x="4301640" y="323640"/>
            <a:ext cx="4488120" cy="336528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05_08_07_lc_06_imagelarge.jpg"/>
          <p:cNvPicPr/>
          <p:nvPr/>
        </p:nvPicPr>
        <p:blipFill>
          <a:blip r:embed="rId16"/>
          <a:stretch/>
        </p:blipFill>
        <p:spPr>
          <a:xfrm flipH="1" rot="20532000">
            <a:off x="181080" y="479160"/>
            <a:ext cx="5072040" cy="33811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05_08_07_ji_03.jpg"/>
          <p:cNvPicPr/>
          <p:nvPr/>
        </p:nvPicPr>
        <p:blipFill>
          <a:blip r:embed="rId17"/>
          <a:stretch/>
        </p:blipFill>
        <p:spPr>
          <a:xfrm rot="619800">
            <a:off x="5709960" y="230832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22 Imagen" descr="04_08_07_lc_06.jpg"/>
          <p:cNvPicPr/>
          <p:nvPr/>
        </p:nvPicPr>
        <p:blipFill>
          <a:blip r:embed="rId18"/>
          <a:stretch/>
        </p:blipFill>
        <p:spPr>
          <a:xfrm rot="1284600">
            <a:off x="5143680" y="214200"/>
            <a:ext cx="3095280" cy="4643640"/>
          </a:xfrm>
          <a:prstGeom prst="rect">
            <a:avLst/>
          </a:prstGeom>
          <a:ln w="0">
            <a:noFill/>
          </a:ln>
        </p:spPr>
      </p:pic>
      <p:pic>
        <p:nvPicPr>
          <p:cNvPr id="358" name="21 Imagen" descr="05_08_07_vo_03_imagelarge.jpg"/>
          <p:cNvPicPr/>
          <p:nvPr/>
        </p:nvPicPr>
        <p:blipFill>
          <a:blip r:embed="rId19"/>
          <a:stretch/>
        </p:blipFill>
        <p:spPr>
          <a:xfrm>
            <a:off x="2928960" y="1714680"/>
            <a:ext cx="3441600" cy="5143320"/>
          </a:xfrm>
          <a:prstGeom prst="rect">
            <a:avLst/>
          </a:prstGeom>
          <a:ln w="0">
            <a:noFill/>
          </a:ln>
        </p:spPr>
      </p:pic>
      <p:pic>
        <p:nvPicPr>
          <p:cNvPr id="359" name="23 Imagen" descr="WSJ2011 - Logo.png"/>
          <p:cNvPicPr/>
          <p:nvPr/>
        </p:nvPicPr>
        <p:blipFill>
          <a:blip r:embed="rId20"/>
          <a:stretch/>
        </p:blipFill>
        <p:spPr>
          <a:xfrm>
            <a:off x="1643040" y="1071720"/>
            <a:ext cx="60418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3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4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7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8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8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9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És una gran trobada mundial d’escoltes, organitzada per la WOSM (</a:t>
            </a:r>
            <a:r>
              <a:rPr b="0" lang="ca-ES" sz="2000" spc="-1" strike="noStrike">
                <a:solidFill>
                  <a:srgbClr val="000000"/>
                </a:solidFill>
                <a:latin typeface="Corbel"/>
              </a:rPr>
              <a:t>World Organization for the Scout Movement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Hi poden participar escoltes de qualsevol entitat federada a la WOSM (com ASDE-Acció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Es fa cada quatre anys en una Regió Escolta (gairebé un “continent”) diferent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2011 Suèci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2015 Japó.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l 2011 es farà al sud de Suèc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n una esplanada a les afores del poble de Rinkaby (província de Kristiansta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Imagen" descr="WSJ2011 - Europa.jpg"/>
          <p:cNvPicPr/>
          <p:nvPr/>
        </p:nvPicPr>
        <p:blipFill>
          <a:blip r:embed="rId2"/>
          <a:stretch/>
        </p:blipFill>
        <p:spPr>
          <a:xfrm>
            <a:off x="671400" y="538200"/>
            <a:ext cx="7801200" cy="5781600"/>
          </a:xfrm>
          <a:prstGeom prst="rect">
            <a:avLst/>
          </a:prstGeom>
          <a:ln w="0">
            <a:noFill/>
          </a:ln>
        </p:spPr>
      </p:pic>
      <p:sp>
        <p:nvSpPr>
          <p:cNvPr id="317" name="4 Flecha a la derecha con bandas"/>
          <p:cNvSpPr/>
          <p:nvPr/>
        </p:nvSpPr>
        <p:spPr>
          <a:xfrm rot="17962800">
            <a:off x="2351880" y="3226320"/>
            <a:ext cx="5068800" cy="492120"/>
          </a:xfrm>
          <a:custGeom>
            <a:avLst/>
            <a:gdLst>
              <a:gd name="textAreaLeft" fmla="*/ 76680 w 5068800"/>
              <a:gd name="textAreaRight" fmla="*/ 4864320 w 5068800"/>
              <a:gd name="textAreaTop" fmla="*/ 177120 h 492120"/>
              <a:gd name="textAreaBottom" fmla="*/ 315000 h 492120"/>
            </a:gdLst>
            <a:ahLst/>
            <a:rect l="textAreaLeft" t="textAreaTop" r="textAreaRight" b="textAreaBottom"/>
            <a:pathLst>
              <a:path w="5068662" h="492068">
                <a:moveTo>
                  <a:pt x="0" y="176982"/>
                </a:moveTo>
                <a:lnTo>
                  <a:pt x="15377" y="176982"/>
                </a:lnTo>
                <a:lnTo>
                  <a:pt x="15377" y="315086"/>
                </a:lnTo>
                <a:lnTo>
                  <a:pt x="0" y="315086"/>
                </a:lnTo>
                <a:close/>
                <a:moveTo>
                  <a:pt x="30754" y="176982"/>
                </a:moveTo>
                <a:lnTo>
                  <a:pt x="61509" y="176982"/>
                </a:lnTo>
                <a:lnTo>
                  <a:pt x="61509" y="315086"/>
                </a:lnTo>
                <a:lnTo>
                  <a:pt x="30754" y="315086"/>
                </a:lnTo>
                <a:close/>
                <a:moveTo>
                  <a:pt x="76886" y="176982"/>
                </a:moveTo>
                <a:lnTo>
                  <a:pt x="4339894" y="176982"/>
                </a:lnTo>
                <a:lnTo>
                  <a:pt x="4339894" y="0"/>
                </a:lnTo>
                <a:lnTo>
                  <a:pt x="5068662" y="246034"/>
                </a:lnTo>
                <a:lnTo>
                  <a:pt x="4339894" y="492068"/>
                </a:lnTo>
                <a:lnTo>
                  <a:pt x="4339894" y="315086"/>
                </a:lnTo>
                <a:lnTo>
                  <a:pt x="76886" y="315086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000840" y="857160"/>
            <a:ext cx="714240" cy="357120"/>
          </a:xfrm>
          <a:prstGeom prst="rect">
            <a:avLst/>
          </a:prstGeom>
          <a:noFill/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3 Imagen" descr="WSJ2011 - Mapa General.png"/>
          <p:cNvPicPr/>
          <p:nvPr/>
        </p:nvPicPr>
        <p:blipFill>
          <a:blip r:embed="rId2"/>
          <a:stretch/>
        </p:blipFill>
        <p:spPr>
          <a:xfrm>
            <a:off x="857160" y="1571760"/>
            <a:ext cx="7210440" cy="5076720"/>
          </a:xfrm>
          <a:prstGeom prst="rect">
            <a:avLst/>
          </a:prstGeom>
          <a:ln w="0">
            <a:noFill/>
          </a:ln>
        </p:spPr>
      </p:pic>
      <p:sp>
        <p:nvSpPr>
          <p:cNvPr id="321" name="4 Rectángulo"/>
          <p:cNvSpPr/>
          <p:nvPr/>
        </p:nvSpPr>
        <p:spPr>
          <a:xfrm>
            <a:off x="4500720" y="4929120"/>
            <a:ext cx="714240" cy="428760"/>
          </a:xfrm>
          <a:prstGeom prst="rect">
            <a:avLst/>
          </a:prstGeom>
          <a:noFill/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5 Imagen" descr="WSJ2011 - Local map.jpg"/>
          <p:cNvPicPr/>
          <p:nvPr/>
        </p:nvPicPr>
        <p:blipFill>
          <a:blip r:embed="rId3"/>
          <a:stretch/>
        </p:blipFill>
        <p:spPr>
          <a:xfrm>
            <a:off x="2214720" y="1143000"/>
            <a:ext cx="4762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50004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Avió de Barcelona a Coppenhagg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1.800 km (unes 4 hores de vol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Amb tren o autobús fins a Kristianst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Uns 140 km (una hora i mitja de traject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3 Imagen" descr="WSJ2011 - Ruta Copenhaggen a Kristianstad.png"/>
          <p:cNvPicPr/>
          <p:nvPr/>
        </p:nvPicPr>
        <p:blipFill>
          <a:blip r:embed="rId2"/>
          <a:stretch/>
        </p:blipFill>
        <p:spPr>
          <a:xfrm>
            <a:off x="285840" y="1714680"/>
            <a:ext cx="86202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es dates oficials de 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s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Del 27 de juliol de 201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l 7 d’agost de 201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ògicament hi ha Contingents (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grups d’escoltes arribats d’un mateix país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) que arriben abans o marxen alguns dies més tard, segons els vols, però 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està tanc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està pensada per als minyons de les unitats grans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Pioners i 3r any de Raiers)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al haver nascut entre els juliols de 1993-1997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Són els minyons que tindran entre 14 i 17 an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ls majors d’edat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nascuts abans del juliol de 1993)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poden anar com a </a:t>
            </a:r>
            <a:r>
              <a:rPr b="1" lang="ca-ES" sz="3200" spc="-1" strike="noStrike">
                <a:solidFill>
                  <a:srgbClr val="000000"/>
                </a:solidFill>
                <a:latin typeface="Corbel"/>
              </a:rPr>
              <a:t>monitors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acompanyants o com a </a:t>
            </a:r>
            <a:r>
              <a:rPr b="1" i="1" lang="ca-ES" sz="3200" spc="-1" strike="noStrike">
                <a:solidFill>
                  <a:srgbClr val="000000"/>
                </a:solidFill>
                <a:latin typeface="Corbel"/>
              </a:rPr>
              <a:t>staff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voluntaris, en l’organització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ls voltants de la Jamboree oficial, s’hi instal·len diversos campaments escoltes “no oficials” amb certs avantatg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una edat específica, s’hi troben escoltes de totes les ed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formar part d’un Contingent Nacion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estar exactament aquestes dates, pots arribar i marxar quan vulgu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430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nar a un campament “no oficial” perme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obar-se amb escoltes d’arreu del m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Fer activitats conjuntes, intercanviar experiències, cançons, idees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onèixer un país nou, una cultura nov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réixer com a escoltes i com a persones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Els minyons que tinguin la edat corresponent poden entrar a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,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perquè es poden comprar entrades d’un dia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42:55Z</dcterms:created>
  <dc:creator>Marc Blanché</dc:creator>
  <dc:description/>
  <dc:language>en-US</dc:language>
  <cp:lastModifiedBy>Marc Blanché</cp:lastModifiedBy>
  <dcterms:modified xsi:type="dcterms:W3CDTF">2009-11-05T12:46:16Z</dcterms:modified>
  <cp:revision>10</cp:revision>
  <dc:subject/>
  <dc:title>PROJECTE D’AGRUPAMENT:</dc:title>
</cp:coreProperties>
</file>