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E08-88DF-4B14-AF05-D7CB483B1FE0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25D7-FA39-45BE-B39B-4DDD3A7BEF1C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DF41-12BC-4966-A4A4-C4531A38F82C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7A93-53C0-42A4-B3CA-3E077BEDB29C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5E3-4223-41E3-9933-E10EA931D2C0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6B1-F1DB-4B83-BD63-30A5B50864E8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9C86-7EB0-4C3E-90B8-9793CDAEC5D1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F21-95D6-4A7E-AA94-1C0EFEE0CAF1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EE4-0C27-473C-85C9-A88718DA433B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DF09-59D3-44FD-B612-1045F1155174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C063-9D7F-4E1F-A0C7-229159377EF0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08A-22CA-4487-9316-92C118F6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F40-9158-498C-A5F9-DFE106AD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ABD-BCBB-4B9E-8FE2-A4B9837A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E24-9202-4F32-8E02-9A8C63EA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D2CC-256C-49C4-B36E-7730A9A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2CA-05F2-4A34-8DF6-730FA42B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EF29-A59E-4462-A021-E53F620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DDE-7DC2-4A59-9FE0-2360C0F6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CA6A-8C25-4CB7-B71D-DFF05E01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EB4-2CCD-4C9F-8CA7-F522768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3D26-026B-4113-8B75-0185879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C5D-297F-468A-9828-690F88E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BEFB-3801-44B8-9EA2-70ADF44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0412-B18E-40B9-BA8D-128C5E9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2AB5-5885-4FC8-95D6-ED7416A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D70-2B33-47E7-A938-0A86E7BD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ACA-A7BB-4987-8D27-2AD1D81C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4AA8-809F-4F2D-9780-F8C523C5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88DC-6CC6-4775-A1D5-F6A134D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E811-56A3-40D2-B750-E01C6CAC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1DE2-525B-4C36-B8B6-B54B6ED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99B2-07A1-473D-8CE8-C76F57FD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345-6A20-4BA7-A0FD-211C4B4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B0A2-4937-49ED-A023-2C01CBD2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C458-FE4A-4671-B188-F6680BE0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B411-D555-44CF-9C06-AC9AE9B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225B-E10C-463F-9CD9-98FDDE7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A1E9-8A42-4A99-8E2E-8FE16822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47FA-E10D-4791-9898-660EE90E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7F76-C382-4575-B073-CF24345C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0D7D-5E2E-4075-B681-A48CB94E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56CF-92AA-4D70-97B6-49BE809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D4F2-7D12-4A87-A7CC-B32310B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6DA-4349-4BB3-B498-5444C76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6E0D-84B3-4DC6-BA2C-B74F281E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F3F1-07A2-445F-9A8E-2EB836A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8E9D-046B-4043-97FA-93FE231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D5B3-1CA8-47B4-8B0D-1053E0A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D359-6015-4706-AE06-D11F9AD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FD34-6E17-4350-ACF9-52D4E79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9A45-E9B1-4C8C-BE04-93C9C41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ED8C-F750-423A-A8D6-D6CB3E49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9705-2439-4E0F-A5C8-3B65A4A9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F98A-8A31-46F8-8FF5-16DFA44D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05E-5DBC-460F-84E8-FCC4C81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E414-2BF9-4FBE-A56C-CA134378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4B2E-0270-48BC-993C-A82B9C9C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0F76-C725-450D-B760-ED38C84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F7BC-6299-45CC-B2DE-B347D7BE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4D22-9E8F-4EA7-BAAA-B940C337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6533-36CE-4922-AE52-602ABD1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C0E9-65F9-4116-8594-4A60B5B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4CD3-665E-4051-803A-6C836A2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A872-4DBD-4EC9-91C5-8F3EAE46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BB2D2-93E3-4012-9091-8AB31663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23F-E6B6-4F2F-B379-73B3F6D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5D6E-1DA9-4D81-A83C-C76D5B3A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34AD-4777-4C10-97FF-B063B912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6A7C-2E5E-42E6-A816-E976D8BD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2EA7-7FBB-451D-A1B8-8198F28C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71733-81DE-437B-884C-A78E23B9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952C-F91F-4230-97AC-9713AC0E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501D-35E1-45DB-B2C5-79C520C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E9DF5-009B-4570-AEC3-9A1D3DAE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6659-A80A-45B9-96A1-DF8C33C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79D8-EACB-4D1C-AF7B-202D6EB1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650-5DED-452D-BC43-D49F97A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78D5-8C19-436A-9BDA-66089AAE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4966-FED2-40C5-96AF-B725DD57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408F-132D-403A-A7FF-B9BB5A6E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EFC1D-BCF0-46EF-9335-CA0C64C0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65A4-621F-49CA-8259-3CF7B70D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B6870-F5F1-47F3-AFBD-4D78399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1C2A-61B8-4DC4-BAFE-9A4E8CF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D5EA-AE7B-4DA5-A028-678FFBB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F911-90F9-451A-92F4-3C87B63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16822-C6C2-4058-9269-9236495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0CB-C36D-499B-BBD6-4FC2E7A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98C7-6B3B-4530-BE08-70D73EA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DBD46-2EBE-41AD-83EC-27ED1A3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55E1-F06F-44FB-984B-D25D483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5167D-7689-41EE-9380-2911DBAA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5268-B96B-4F9C-B43A-1F7BDB4D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2C5-4609-4EAA-A5BF-C24F243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4A6-DFD5-4A87-9386-A9EC59FDB3E8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453-0760-4A1D-8ABE-3209633B348C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20C-2D44-4FD9-9C2E-51B9360AADC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65E-E754-40D9-8949-94A0758347E2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EB2C-38AF-4393-A545-4537037CBFA2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A28-2300-45FF-98F9-1C13EDF6FD9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20 Conector recto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26 Conector recto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30 Conector recto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3A3-BBCA-48AB-8FE5-C4124C238F4F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ares-rocafort@googlegroups.com" TargetMode="External"/><Relationship Id="rId2" Type="http://schemas.openxmlformats.org/officeDocument/2006/relationships/hyperlink" Target="http://rocafort.web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rbel"/>
              </a:rPr>
              <a:t>Agrupament Escolta Rocafor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4 Imagen" descr="Logo Cau petit.jpg"/>
          <p:cNvPicPr/>
          <p:nvPr/>
        </p:nvPicPr>
        <p:blipFill>
          <a:blip r:embed="rId2"/>
          <a:stretch/>
        </p:blipFill>
        <p:spPr>
          <a:xfrm>
            <a:off x="5786280" y="928800"/>
            <a:ext cx="2692440" cy="2786040"/>
          </a:xfrm>
          <a:prstGeom prst="rect">
            <a:avLst/>
          </a:prstGeom>
          <a:ln w="0">
            <a:noFill/>
          </a:ln>
        </p:spPr>
      </p:pic>
      <p:sp>
        <p:nvSpPr>
          <p:cNvPr id="378" name="5 CuadroTexto"/>
          <p:cNvSpPr/>
          <p:nvPr/>
        </p:nvSpPr>
        <p:spPr>
          <a:xfrm>
            <a:off x="928800" y="71424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rbel"/>
              </a:rPr>
              <a:t>Divendres, 6 de novembre de 200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Precs i pregunt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Gràcies per venir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Ordre del 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esentació del cu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Roda d’Unita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El  15è Aniversar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mpaments Generals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mpaments d’Estiu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ojecte 2011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lt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Roda d’Unita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st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Rai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2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io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15è Aniversar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42848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oncurs logot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erigrafia dels go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D de músic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erxandatge vari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orteig de Nad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Berenar del 15è Aniversari (10/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opar Antics (17/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Trobada amb altres agrupa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Fiestón del 15! (29/05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Campaments Generals 2010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oc: terreny El Flamise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Dates: del 1 al 4 d’abril de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eu: a concret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Campaments 15è Aniversar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mpaments d’estiu molt especials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Projecte 2011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resentació a par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1eeff"/>
                </a:solidFill>
                <a:uFillTx/>
                <a:latin typeface="Consolas"/>
              </a:rPr>
              <a:t>Altr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Tresorer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odificació dels Estatu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istat de col·laborad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ista d’adreces electròniqu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Grup </a:t>
            </a:r>
            <a:r>
              <a:rPr b="0" lang="es-E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pares-rocafort@googlegroups.co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àgina web: </a:t>
            </a:r>
            <a:r>
              <a:rPr b="0" lang="es-E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rocafort.webs.com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 u="sng">
                <a:solidFill>
                  <a:srgbClr val="c1eeff"/>
                </a:solidFill>
                <a:uFillTx/>
                <a:latin typeface="Consolas"/>
              </a:rPr>
              <a:t>Recordem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Cau al matí (21 novembr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Assemblea Nacional (22 novembr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Festival Hivern (12 desembr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9:32:50Z</dcterms:created>
  <dc:creator>Ferran</dc:creator>
  <dc:description/>
  <dc:language>en-US</dc:language>
  <cp:lastModifiedBy>Marc Blanché</cp:lastModifiedBy>
  <dcterms:modified xsi:type="dcterms:W3CDTF">2009-11-09T13:45:41Z</dcterms:modified>
  <cp:revision>5</cp:revision>
  <dc:subject/>
  <dc:title>Reunió d’inici de curs 2009-2010</dc:title>
</cp:coreProperties>
</file>