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9B31-987C-419C-BF42-F7F64CF2AEE8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A3B1-A24B-4170-9048-211566AB29A8}" type="slidenum">
              <a:rPr b="0" lang="ca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213A-BA70-47D3-922E-367EE480FC78}" type="slidenum">
              <a:rPr b="0" lang="ca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5C29-B57D-43D1-80C3-35AA7B61DE80}" type="slidenum">
              <a:rPr b="0" lang="ca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54ED-BE81-4A76-864D-A64B1D25E596}" type="slidenum">
              <a:rPr b="0" lang="ca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C5A2-6569-48F7-8E47-66B4F6BA655C}" type="slidenum">
              <a:rPr b="0" lang="ca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E369-4DA6-41F6-A107-55E44423DC2B}" type="slidenum">
              <a:rPr b="0" lang="ca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E5BA-204A-496F-9420-B4A3A7EF90D9}" type="slidenum">
              <a:rPr b="0" lang="ca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0E5F-CB29-456B-A128-C9D9FC92579F}" type="slidenum">
              <a:rPr b="0" lang="ca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C436-58F5-4F57-B2D1-25E18C3EF1E5}" type="slidenum">
              <a:rPr b="0" lang="ca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C268-4FE2-4230-A975-F91EED9A8687}" type="slidenum">
              <a:rPr b="0" lang="ca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53E2-A24A-4B0C-BDD7-833A35DB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8C9-9B22-447E-9E78-ECA74C5E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ED9-9C3B-44B2-AF1B-59BF44E3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6AB2-13C9-4466-8845-AD86F3A0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D807-9F9C-46CB-A964-AC49B225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D585-9791-438D-8B8E-C7EC5874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6595-9D6E-4A3B-9BD4-D118BED3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3E2C-7E36-4F6C-9519-41AB18C6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01ED-445F-4600-9C80-C40734ED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6A8F-D62E-4328-BE5F-07301628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7FD1-A427-4D27-A5F0-A18DD4FF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F0E-9945-447F-8D16-F37C46AF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1B3E-64C9-4901-A3DA-E151EE5D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F976-41C1-494D-81C2-79BCCC9B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E3B8-868F-49BE-88AB-5BB2FBDC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7818-2D0B-4E75-B603-231A44C6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FFA9-2BBC-42F3-9B7E-CC70999A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F9F17-D9AD-44D4-BC9A-21D946B4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5F461-0420-4FB5-9F3E-DF313E86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131A0-8AF4-45D1-99BF-44F25ECD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B2579-56D0-4B37-8638-FD729687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78CC4-7D24-42BA-86A5-7097076E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C15-73C2-41FF-8D9D-27F18794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9F735-FB3B-4ECE-9A3F-E557A63D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5837C-16C3-487B-9BAC-95F9B5E7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4018A-5222-4336-836B-A22C44FF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4163D-4790-4783-803B-0C565F48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30F90-5EA8-46FA-BC7A-9C1D0C93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DC60D-3A55-4AFF-A85C-49B6FFFA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194F2-9AB1-49C2-9810-E2A7EBE3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B5A78-52C4-413D-88E8-E522E274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D8F2F-F215-4B65-BB2F-7F2AF61D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FE3A7-E7E5-4C4D-90A1-E13DFBD1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A999-19C1-4A45-9394-CA542AF1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DCC3B-041A-4B87-9E21-64B3E335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1C8D2-CEFF-4DB2-B771-9EB34379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4B81C-0681-4E76-9D65-B7E7ECFD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0D099-0CCF-4DD2-A58D-324B0BC1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84BBF-2728-432C-BD51-9D9D844A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288D3-2BB5-4D0B-BB89-4D6D80CC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BB62D-80CD-405F-985D-04FCF653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E8400-5768-4F7C-83B1-7AF17CD8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AD16F-9EFF-42EB-AE18-25F3F3C9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63C53-3F7F-4090-9FE4-533CF048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FCD7-9594-42CF-870C-D48F37C1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3CF20-CDDC-4B2A-9C0B-D87B6492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757FF-3AC0-4229-88C4-3642DB4C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D6ECB-1739-433B-AA27-45CBC1E6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A0677-5F3A-43AE-A7E1-63E6EAC6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A95EC-82CD-45E6-8C06-94439D35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BDE0C-E68E-4E4F-B9F3-3F066BBE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6A8DD-1893-422A-8CFD-DADCDBA5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3DAB7-B8CA-4835-8D3E-A6E67F41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06489-BE06-4A10-87EE-C715B2B4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6B375-6E5B-44DE-A41D-2D382415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6FF1-E1B1-4897-94C6-78245F98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9BEDF-F9AD-438B-9271-78ACE947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DA948-3723-4AD1-B59D-51D4E69A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766F8-6087-41D0-B582-F34C1EB4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32349-BD98-47BA-81B7-58ED63BC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8099D-296E-47F2-9D2E-CE0EAA13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51829-8EE2-4B4C-92F0-EC9794EC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2D30F-594A-4396-861F-FD0CB11D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81C83-E121-4E17-BC0B-1A4A0354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22D3D-C278-4237-977C-7B40C0E0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80645-08D1-46D9-B5BE-6CFB1706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227-4F8B-4606-BBFD-4C6D1DDA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593BA-AC7B-4F79-8B09-3E97AA56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9BCF6-49AC-4D59-9A25-9214C417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6AF82-57CB-4EA0-8701-252C8F8A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CABE7-5494-411C-8186-2091B17F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48D2F-769B-4713-8FBB-CED6FDD6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5783F-F2E5-43D1-B3A6-189A7D09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EE5CB-22C5-4A4E-AD5F-9C2F548C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52CE3-C2EC-44FF-BC0C-BB99C3F6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178B8-EFBB-4B84-9494-86114208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80793-DC3C-4086-841C-ED7F807B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198-96E8-47FC-B5F2-27E906F2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970A9-1EE6-46AF-B875-F469B557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0A0BE-1756-44B8-AB71-EA3C47D8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167C3-9D4C-477F-81BB-69975BF5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78808-AFC4-4C0B-BC51-DA84C091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54F91-E331-4875-804A-53AA5C6B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6386-6A8C-4AB7-AE34-93783980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6458-CAA6-4EDA-A84D-784DB660A5B9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7EE7-DF46-4CBC-B99E-204BB1CD4144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17 Forma libre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18 Forma libre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19 Forma libre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20 Forma libre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23 Forma libre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24 Forma libre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25 Forma libre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26 Forma libre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27 Forma libre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28 Forma libre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29 Forma libre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30 Forma libre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31 Forma libre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32 Forma libre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33 Forma libre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EB07-D836-4462-9A0F-3118417153AE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37D8-F5F7-4583-B6AC-877D45BF50BA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90B3-E7F9-4AAB-94A6-4F1C48FAC08F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ED23-9ADC-4109-A96B-A38232A8CC40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19 Grupo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20 Conector recto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23 Conector recto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24 Conector recto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25 Grupo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26 Conector recto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27 Conector recto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28 Conector recto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29 Grupo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30 Conector recto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31 Conector recto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32 Conector recto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F6C6-3211-4823-A333-8BE62671E389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pares-rocafort@googlegroups.com" TargetMode="External"/><Relationship Id="rId2" Type="http://schemas.openxmlformats.org/officeDocument/2006/relationships/hyperlink" Target="http://rocafort.web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rbel"/>
              </a:rPr>
              <a:t>Agrupament Escolta Rocafor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4 Imagen" descr="Logo Cau petit.jpg"/>
          <p:cNvPicPr/>
          <p:nvPr/>
        </p:nvPicPr>
        <p:blipFill>
          <a:blip r:embed="rId2"/>
          <a:stretch/>
        </p:blipFill>
        <p:spPr>
          <a:xfrm>
            <a:off x="5786280" y="928800"/>
            <a:ext cx="2692440" cy="2786040"/>
          </a:xfrm>
          <a:prstGeom prst="rect">
            <a:avLst/>
          </a:prstGeom>
          <a:ln w="0">
            <a:noFill/>
          </a:ln>
        </p:spPr>
      </p:pic>
      <p:sp>
        <p:nvSpPr>
          <p:cNvPr id="378" name="5 CuadroTexto"/>
          <p:cNvSpPr/>
          <p:nvPr/>
        </p:nvSpPr>
        <p:spPr>
          <a:xfrm>
            <a:off x="928800" y="714240"/>
            <a:ext cx="43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Corbel"/>
              </a:rPr>
              <a:t>Divendres, 6 de novembre de 2009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1eeff"/>
                </a:solidFill>
                <a:uFillTx/>
                <a:latin typeface="Consolas"/>
              </a:rPr>
              <a:t>Precs i pregunt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Gràcies per venir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1eeff"/>
                </a:solidFill>
                <a:uFillTx/>
                <a:latin typeface="Consolas"/>
              </a:rPr>
              <a:t>Ordre del 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Presentació del cu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Roda d’Unita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El  15è Aniversar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Campaments Generals 201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Campaments d’Estiu 201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Projecte 2011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Alt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1eeff"/>
                </a:solidFill>
                <a:uFillTx/>
                <a:latin typeface="Consolas"/>
              </a:rPr>
              <a:t>Roda d’Unita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2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Casto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2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Llop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2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Rai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2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Pion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1eeff"/>
                </a:solidFill>
                <a:uFillTx/>
                <a:latin typeface="Consolas"/>
              </a:rPr>
              <a:t>15è Aniversar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42848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Concurs logoti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Serigrafia dels go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CD de músic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Merxandatge vari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Sorteig de Nad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Berenar del 15è Aniversari (10/04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Sopar Antics (17/04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Trobada amb altres agrupame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Fiestón del 15! (29/05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1eeff"/>
                </a:solidFill>
                <a:uFillTx/>
                <a:latin typeface="Consolas"/>
              </a:rPr>
              <a:t>Campaments Generals 2010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Lloc: terreny El Flamisel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Dates: del 1 al 4 d’abril de 201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Preu: a concreta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1eeff"/>
                </a:solidFill>
                <a:uFillTx/>
                <a:latin typeface="Consolas"/>
              </a:rPr>
              <a:t>Campaments 15è Aniversar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Campaments d’estiu molt especials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1eeff"/>
                </a:solidFill>
                <a:uFillTx/>
                <a:latin typeface="Consolas"/>
              </a:rPr>
              <a:t>Projecte 2011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Presentació a par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1eeff"/>
                </a:solidFill>
                <a:uFillTx/>
                <a:latin typeface="Consolas"/>
              </a:rPr>
              <a:t>Altr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Tresoreri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Modificació dels Estatu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Llistat de col·laborado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Llista d’adreces electròniqu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Grup </a:t>
            </a:r>
            <a:r>
              <a:rPr b="0" lang="es-ES" sz="26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pares-rocafort@googlegroups.co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Pàgina web: </a:t>
            </a:r>
            <a:r>
              <a:rPr b="0" lang="es-ES" sz="30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http://rocafort.webs.com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 u="sng">
                <a:solidFill>
                  <a:srgbClr val="c1eeff"/>
                </a:solidFill>
                <a:uFillTx/>
                <a:latin typeface="Consolas"/>
              </a:rPr>
              <a:t>Recordem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Cau al matí (21 novembr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Assemblea Nacional (22 novembr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Festival Hivern (12 desembr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9:32:50Z</dcterms:created>
  <dc:creator>Ferran</dc:creator>
  <dc:description/>
  <dc:language>en-US</dc:language>
  <cp:lastModifiedBy>Marc Blanché</cp:lastModifiedBy>
  <dcterms:modified xsi:type="dcterms:W3CDTF">2009-11-09T13:45:41Z</dcterms:modified>
  <cp:revision>5</cp:revision>
  <dc:subject/>
  <dc:title>Reunió d’inici de curs 2009-2010</dc:title>
</cp:coreProperties>
</file>